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6EE-C476-4083-B45D-4FF1C621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D22-EE77-4D40-9002-21BFAFA6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15E-9F99-4018-AFDE-0CB853EF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8F4-1894-4B70-8B3D-DE5F8054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924-35C4-4BA6-B0F2-2A818FB1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DF0-6037-4A07-87D1-4483807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4CE-CE34-49CA-B057-357460D3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231-FC4A-4E39-BDAE-5BCDDA21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465-DF43-46A7-99DE-0D06AFAF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988-E3D2-41CF-ABFF-BD688E0B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60C-5D58-41ED-ABF9-EC7E7475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76D-6D58-4F2B-8EDE-77F8DBD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CBFA-F6C6-4DF7-B0DD-253DF57CC0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248760" y="981000"/>
            <a:ext cx="864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НЕЙНАЯ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УНКЦИЯ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ЕЁ ГРАФИ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571760" y="1143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395280" y="105264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Коэффициент  </a:t>
            </a:r>
            <a:r>
              <a:rPr b="1" i="1" lang="en-US" sz="5400" spc="-1" strike="noStrike">
                <a:solidFill>
                  <a:srgbClr val="ff0000"/>
                </a:solidFill>
                <a:latin typeface="Book Antiqua"/>
              </a:rPr>
              <a:t>k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называ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угловым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коэффициент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134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ЗМИНУТ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70000" y="357120"/>
            <a:ext cx="707400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0" y="714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285768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0" y="500076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6"/>
          <p:cNvSpPr/>
          <p:nvPr/>
        </p:nvSpPr>
        <p:spPr>
          <a:xfrm>
            <a:off x="-78480" y="0"/>
            <a:ext cx="21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0,5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х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-65520" y="221472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ru-RU" sz="3200" spc="-1" strike="noStrike">
                <a:solidFill>
                  <a:srgbClr val="009900"/>
                </a:solidFill>
                <a:latin typeface="Constanti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х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-59400" y="4357800"/>
            <a:ext cx="15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 х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936000" y="714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988200" y="1428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853640" y="714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2"/>
          <p:cNvSpPr/>
          <p:nvPr/>
        </p:nvSpPr>
        <p:spPr>
          <a:xfrm>
            <a:off x="1853640" y="1428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3"/>
          <p:cNvSpPr/>
          <p:nvPr/>
        </p:nvSpPr>
        <p:spPr>
          <a:xfrm>
            <a:off x="7143840" y="1643040"/>
            <a:ext cx="21420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5429160" y="2428920"/>
            <a:ext cx="21456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V="1">
            <a:off x="2143080" y="856800"/>
            <a:ext cx="678672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7"/>
          <p:cNvSpPr/>
          <p:nvPr/>
        </p:nvSpPr>
        <p:spPr>
          <a:xfrm>
            <a:off x="1007280" y="285768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8"/>
          <p:cNvSpPr/>
          <p:nvPr/>
        </p:nvSpPr>
        <p:spPr>
          <a:xfrm>
            <a:off x="988200" y="35719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1749600" y="285768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1786680" y="350028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21"/>
          <p:cNvSpPr/>
          <p:nvPr/>
        </p:nvSpPr>
        <p:spPr>
          <a:xfrm>
            <a:off x="5429160" y="2428920"/>
            <a:ext cx="214560" cy="21420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22"/>
          <p:cNvSpPr/>
          <p:nvPr/>
        </p:nvSpPr>
        <p:spPr>
          <a:xfrm>
            <a:off x="5857920" y="78588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24"/>
          <p:cNvSpPr/>
          <p:nvPr/>
        </p:nvSpPr>
        <p:spPr>
          <a:xfrm flipV="1">
            <a:off x="4571280" y="500040"/>
            <a:ext cx="1500120" cy="58579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6"/>
          <p:cNvSpPr/>
          <p:nvPr/>
        </p:nvSpPr>
        <p:spPr>
          <a:xfrm>
            <a:off x="1007280" y="50007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7"/>
          <p:cNvSpPr/>
          <p:nvPr/>
        </p:nvSpPr>
        <p:spPr>
          <a:xfrm>
            <a:off x="1059840" y="57150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8"/>
          <p:cNvSpPr/>
          <p:nvPr/>
        </p:nvSpPr>
        <p:spPr>
          <a:xfrm>
            <a:off x="1839240" y="50007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9"/>
          <p:cNvSpPr/>
          <p:nvPr/>
        </p:nvSpPr>
        <p:spPr>
          <a:xfrm>
            <a:off x="1841400" y="57150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30"/>
          <p:cNvSpPr/>
          <p:nvPr/>
        </p:nvSpPr>
        <p:spPr>
          <a:xfrm>
            <a:off x="6715080" y="1214280"/>
            <a:ext cx="214200" cy="214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31"/>
          <p:cNvSpPr/>
          <p:nvPr/>
        </p:nvSpPr>
        <p:spPr>
          <a:xfrm>
            <a:off x="5429160" y="2428920"/>
            <a:ext cx="214560" cy="2142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33"/>
          <p:cNvSpPr/>
          <p:nvPr/>
        </p:nvSpPr>
        <p:spPr>
          <a:xfrm flipV="1">
            <a:off x="2571840" y="356760"/>
            <a:ext cx="5143320" cy="50720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4"/>
          <p:cNvSpPr/>
          <p:nvPr/>
        </p:nvSpPr>
        <p:spPr>
          <a:xfrm>
            <a:off x="7473960" y="142884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nstantia"/>
              </a:rPr>
              <a:t>k = 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>
            <a:off x="4197240" y="78588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nstantia"/>
              </a:rPr>
              <a:t>k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>
            <a:off x="7308000" y="57168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onstantia"/>
              </a:rPr>
              <a:t>k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ирог 37"/>
          <p:cNvSpPr/>
          <p:nvPr/>
        </p:nvSpPr>
        <p:spPr>
          <a:xfrm rot="19046400">
            <a:off x="3160800" y="2779200"/>
            <a:ext cx="1538280" cy="1285920"/>
          </a:xfrm>
          <a:custGeom>
            <a:avLst/>
            <a:gdLst>
              <a:gd name="textAreaLeft" fmla="*/ 225000 w 1538280"/>
              <a:gd name="textAreaRight" fmla="*/ 1313280 w 1538280"/>
              <a:gd name="textAreaTop" fmla="*/ 188280 h 1285920"/>
              <a:gd name="textAreaBottom" fmla="*/ 1097640 h 1285920"/>
            </a:gdLst>
            <a:ahLst/>
            <a:rect l="textAreaLeft" t="textAreaTop" r="textAreaRight" b="textAreaBottom"/>
            <a:pathLst>
              <a:path w="1538287" h="1285875">
                <a:moveTo>
                  <a:pt x="1504504" y="831391"/>
                </a:moveTo>
                <a:lnTo>
                  <a:pt x="1504504" y="831391"/>
                </a:lnTo>
                <a:arcTo wR="769144" hR="642938" stAng="862445" swAng="1688179"/>
                <a:lnTo>
                  <a:pt x="769144" y="64293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ирог 38"/>
          <p:cNvSpPr/>
          <p:nvPr/>
        </p:nvSpPr>
        <p:spPr>
          <a:xfrm rot="19046400">
            <a:off x="3875040" y="2779200"/>
            <a:ext cx="1538280" cy="1285920"/>
          </a:xfrm>
          <a:custGeom>
            <a:avLst/>
            <a:gdLst>
              <a:gd name="textAreaLeft" fmla="*/ 225000 w 1538280"/>
              <a:gd name="textAreaRight" fmla="*/ 1313280 w 1538280"/>
              <a:gd name="textAreaTop" fmla="*/ 188280 h 1285920"/>
              <a:gd name="textAreaBottom" fmla="*/ 1097640 h 1285920"/>
            </a:gdLst>
            <a:ahLst/>
            <a:rect l="textAreaLeft" t="textAreaTop" r="textAreaRight" b="textAreaBottom"/>
            <a:pathLst>
              <a:path w="1538287" h="1285875">
                <a:moveTo>
                  <a:pt x="1536990" y="605611"/>
                </a:moveTo>
                <a:lnTo>
                  <a:pt x="1536990" y="605611"/>
                </a:lnTo>
                <a:arcTo wR="769144" hR="642938" stAng="-166982" swAng="2717612"/>
                <a:lnTo>
                  <a:pt x="769144" y="642938"/>
                </a:lnTo>
                <a:close/>
              </a:path>
            </a:pathLst>
          </a:custGeom>
          <a:solidFill>
            <a:srgbClr val="0070c0">
              <a:alpha val="49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ирог 39"/>
          <p:cNvSpPr/>
          <p:nvPr/>
        </p:nvSpPr>
        <p:spPr>
          <a:xfrm rot="19046400">
            <a:off x="4589640" y="2779200"/>
            <a:ext cx="1538280" cy="1285920"/>
          </a:xfrm>
          <a:custGeom>
            <a:avLst/>
            <a:gdLst>
              <a:gd name="textAreaLeft" fmla="*/ 225000 w 1538280"/>
              <a:gd name="textAreaRight" fmla="*/ 1313280 w 1538280"/>
              <a:gd name="textAreaTop" fmla="*/ 188280 h 1285920"/>
              <a:gd name="textAreaBottom" fmla="*/ 1097640 h 1285920"/>
            </a:gdLst>
            <a:ahLst/>
            <a:rect l="textAreaLeft" t="textAreaTop" r="textAreaRight" b="textAreaBottom"/>
            <a:pathLst>
              <a:path w="1538287" h="1285875">
                <a:moveTo>
                  <a:pt x="1368661" y="240169"/>
                </a:moveTo>
                <a:lnTo>
                  <a:pt x="1368661" y="240169"/>
                </a:lnTo>
                <a:arcTo wR="769144" hR="642938" stAng="-2033639" swAng="4584270"/>
                <a:lnTo>
                  <a:pt x="769144" y="642938"/>
                </a:lnTo>
                <a:close/>
              </a:path>
            </a:pathLst>
          </a:custGeom>
          <a:solidFill>
            <a:srgbClr val="009900">
              <a:alpha val="36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-0.03055 L 0.15816 0.36852 E">
                                      <p:cBhvr>
                                        <p:cTn id="42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4 -0.03055 L 0.23629 0.36852 E">
                                      <p:cBhvr>
                                        <p:cTn id="43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-0.02013 L 0.31441 0.36852 E">
                                      <p:cBhvr>
                                        <p:cTn id="43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>
            <a:off x="395280" y="47628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Чем больше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угловой коэффициент </a:t>
            </a:r>
            <a:r>
              <a:rPr b="0" lang="en-US" sz="5400" spc="-1" strike="noStrike">
                <a:solidFill>
                  <a:srgbClr val="ff0000"/>
                </a:solidFill>
                <a:latin typeface="Book Antiqua"/>
              </a:rPr>
              <a:t>k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тем больше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угол, образованный графиком функции с осью О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0" descr="bodypart52.jpg"/>
          <p:cNvPicPr/>
          <p:nvPr/>
        </p:nvPicPr>
        <p:blipFill>
          <a:blip r:embed="rId1"/>
          <a:stretch/>
        </p:blipFill>
        <p:spPr>
          <a:xfrm>
            <a:off x="1714680" y="5000760"/>
            <a:ext cx="954000" cy="1444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bodypart52.jpg"/>
          <p:cNvPicPr/>
          <p:nvPr/>
        </p:nvPicPr>
        <p:blipFill>
          <a:blip r:embed="rId2"/>
          <a:stretch/>
        </p:blipFill>
        <p:spPr>
          <a:xfrm>
            <a:off x="7451640" y="1341360"/>
            <a:ext cx="939960" cy="14446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928800" y="35712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0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, образованный графиком функции и осью ОХ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5"/>
          <p:cNvCxnSpPr/>
          <p:nvPr/>
        </p:nvCxnSpPr>
        <p:spPr>
          <a:xfrm flipV="1">
            <a:off x="4142160" y="1285560"/>
            <a:ext cx="2520" cy="3858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Прямая со стрелкой 7"/>
          <p:cNvCxnSpPr/>
          <p:nvPr/>
        </p:nvCxnSpPr>
        <p:spPr>
          <a:xfrm>
            <a:off x="714240" y="3142800"/>
            <a:ext cx="7787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Прямая соединительная линия 9"/>
          <p:cNvSpPr/>
          <p:nvPr/>
        </p:nvSpPr>
        <p:spPr>
          <a:xfrm flipV="1">
            <a:off x="2428920" y="1356840"/>
            <a:ext cx="5286240" cy="3714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8199000" y="32148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3700800" y="12859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ирог 14"/>
          <p:cNvSpPr/>
          <p:nvPr/>
        </p:nvSpPr>
        <p:spPr>
          <a:xfrm rot="19053600">
            <a:off x="3774960" y="1851120"/>
            <a:ext cx="2880000" cy="2565360"/>
          </a:xfrm>
          <a:custGeom>
            <a:avLst/>
            <a:gdLst>
              <a:gd name="textAreaLeft" fmla="*/ 421560 w 2880000"/>
              <a:gd name="textAreaRight" fmla="*/ 2458440 w 2880000"/>
              <a:gd name="textAreaTop" fmla="*/ 375480 h 2565360"/>
              <a:gd name="textAreaBottom" fmla="*/ 2189880 h 2565360"/>
            </a:gdLst>
            <a:ahLst/>
            <a:rect l="textAreaLeft" t="textAreaTop" r="textAreaRight" b="textAreaBottom"/>
            <a:pathLst>
              <a:path w="2879725" h="2565400">
                <a:moveTo>
                  <a:pt x="2863469" y="1474901"/>
                </a:moveTo>
                <a:lnTo>
                  <a:pt x="2863469" y="1474901"/>
                </a:lnTo>
                <a:arcTo wR="1439863" hR="1282700" stAng="461340" swAng="2103413"/>
                <a:lnTo>
                  <a:pt x="1439863" y="12827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4286160" y="3571920"/>
            <a:ext cx="48578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сли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вая рука  выше левой, то угловой коэффициент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ложи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 знак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ю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928800" y="35712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 0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, образованный графиком функции и осью ОХ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уп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2"/>
          <p:cNvCxnSpPr/>
          <p:nvPr/>
        </p:nvCxnSpPr>
        <p:spPr>
          <a:xfrm flipV="1">
            <a:off x="4142160" y="1285560"/>
            <a:ext cx="2520" cy="3858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Прямая со стрелкой 3"/>
          <p:cNvCxnSpPr/>
          <p:nvPr/>
        </p:nvCxnSpPr>
        <p:spPr>
          <a:xfrm>
            <a:off x="714240" y="3142800"/>
            <a:ext cx="7787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Прямая соединительная линия 4"/>
          <p:cNvSpPr/>
          <p:nvPr/>
        </p:nvSpPr>
        <p:spPr>
          <a:xfrm flipH="1" flipV="1">
            <a:off x="1500120" y="2000160"/>
            <a:ext cx="4929120" cy="2643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8056080" y="328608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3700800" y="12859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ирог 10"/>
          <p:cNvSpPr/>
          <p:nvPr/>
        </p:nvSpPr>
        <p:spPr>
          <a:xfrm rot="19053600">
            <a:off x="2131560" y="1850760"/>
            <a:ext cx="2879640" cy="2565360"/>
          </a:xfrm>
          <a:custGeom>
            <a:avLst/>
            <a:gdLst>
              <a:gd name="textAreaLeft" fmla="*/ 421560 w 2879640"/>
              <a:gd name="textAreaRight" fmla="*/ 2458080 w 2879640"/>
              <a:gd name="textAreaTop" fmla="*/ 375480 h 2565360"/>
              <a:gd name="textAreaBottom" fmla="*/ 2189880 h 2565360"/>
            </a:gdLst>
            <a:ahLst/>
            <a:rect l="textAreaLeft" t="textAreaTop" r="textAreaRight" b="textAreaBottom"/>
            <a:pathLst>
              <a:path w="2879725" h="2565400">
                <a:moveTo>
                  <a:pt x="996663" y="62277"/>
                </a:moveTo>
                <a:lnTo>
                  <a:pt x="996663" y="62277"/>
                </a:lnTo>
                <a:arcTo wR="1439863" hR="1282700" stAng="-6597514" swAng="9162273"/>
                <a:lnTo>
                  <a:pt x="1439863" y="12827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11" descr="bodypart52.jpg"/>
          <p:cNvPicPr/>
          <p:nvPr/>
        </p:nvPicPr>
        <p:blipFill>
          <a:blip r:embed="rId1"/>
          <a:stretch/>
        </p:blipFill>
        <p:spPr>
          <a:xfrm>
            <a:off x="6215040" y="4714920"/>
            <a:ext cx="939960" cy="14446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bodypart52.jpg"/>
          <p:cNvPicPr/>
          <p:nvPr/>
        </p:nvPicPr>
        <p:blipFill>
          <a:blip r:embed="rId2"/>
          <a:stretch/>
        </p:blipFill>
        <p:spPr>
          <a:xfrm>
            <a:off x="684360" y="1989000"/>
            <a:ext cx="928440" cy="14446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3"/>
          <p:cNvSpPr/>
          <p:nvPr/>
        </p:nvSpPr>
        <p:spPr>
          <a:xfrm>
            <a:off x="0" y="4643280"/>
            <a:ext cx="5929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сли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вая рука  выше правой, то угловой коэффициент отрицательный  (знак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ну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928800" y="35712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ик параллелен оси 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2"/>
          <p:cNvCxnSpPr/>
          <p:nvPr/>
        </p:nvCxnSpPr>
        <p:spPr>
          <a:xfrm flipV="1">
            <a:off x="4142160" y="1285560"/>
            <a:ext cx="2520" cy="2929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Прямая со стрелкой 3"/>
          <p:cNvCxnSpPr/>
          <p:nvPr/>
        </p:nvCxnSpPr>
        <p:spPr>
          <a:xfrm>
            <a:off x="714240" y="3142800"/>
            <a:ext cx="7787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4"/>
          <p:cNvSpPr/>
          <p:nvPr/>
        </p:nvSpPr>
        <p:spPr>
          <a:xfrm flipH="1" flipV="1">
            <a:off x="428400" y="2071800"/>
            <a:ext cx="80722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8056080" y="328608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3700800" y="12859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7" descr="bodypart52.jpg"/>
          <p:cNvPicPr/>
          <p:nvPr/>
        </p:nvPicPr>
        <p:blipFill>
          <a:blip r:embed="rId1"/>
          <a:stretch/>
        </p:blipFill>
        <p:spPr>
          <a:xfrm>
            <a:off x="8204040" y="2143080"/>
            <a:ext cx="93996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bodypart52.jpg"/>
          <p:cNvPicPr/>
          <p:nvPr/>
        </p:nvPicPr>
        <p:blipFill>
          <a:blip r:embed="rId2"/>
          <a:stretch/>
        </p:blipFill>
        <p:spPr>
          <a:xfrm>
            <a:off x="0" y="2214720"/>
            <a:ext cx="928800" cy="144432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9"/>
          <p:cNvSpPr/>
          <p:nvPr/>
        </p:nvSpPr>
        <p:spPr>
          <a:xfrm>
            <a:off x="3053520" y="4429080"/>
            <a:ext cx="238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7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0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"/>
          <p:cNvSpPr/>
          <p:nvPr/>
        </p:nvSpPr>
        <p:spPr>
          <a:xfrm>
            <a:off x="1403280" y="692280"/>
            <a:ext cx="65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остроим несколько графиков линейных функций, у которых одинаковые угловые коэффициент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070000" y="642960"/>
            <a:ext cx="7074000" cy="62150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2"/>
          <p:cNvSpPr/>
          <p:nvPr/>
        </p:nvSpPr>
        <p:spPr>
          <a:xfrm>
            <a:off x="0" y="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-х +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714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Прямоугольник 4"/>
          <p:cNvSpPr/>
          <p:nvPr/>
        </p:nvSpPr>
        <p:spPr>
          <a:xfrm>
            <a:off x="0" y="214308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-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3000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0" y="5286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6" name="Прямоугольник 7"/>
          <p:cNvSpPr/>
          <p:nvPr/>
        </p:nvSpPr>
        <p:spPr>
          <a:xfrm>
            <a:off x="0" y="450072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у = -х - 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927360" y="71424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925560" y="1357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1641240" y="64296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1856520" y="1357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2"/>
          <p:cNvSpPr/>
          <p:nvPr/>
        </p:nvSpPr>
        <p:spPr>
          <a:xfrm>
            <a:off x="4643280" y="1071720"/>
            <a:ext cx="142920" cy="14256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13"/>
          <p:cNvSpPr/>
          <p:nvPr/>
        </p:nvSpPr>
        <p:spPr>
          <a:xfrm>
            <a:off x="5500800" y="1928880"/>
            <a:ext cx="142920" cy="14292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4"/>
          <p:cNvSpPr/>
          <p:nvPr/>
        </p:nvSpPr>
        <p:spPr>
          <a:xfrm>
            <a:off x="4214880" y="2357280"/>
            <a:ext cx="142920" cy="14292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5"/>
          <p:cNvSpPr/>
          <p:nvPr/>
        </p:nvSpPr>
        <p:spPr>
          <a:xfrm>
            <a:off x="5500800" y="3643200"/>
            <a:ext cx="142920" cy="14292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6"/>
          <p:cNvSpPr/>
          <p:nvPr/>
        </p:nvSpPr>
        <p:spPr>
          <a:xfrm>
            <a:off x="292896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17"/>
          <p:cNvSpPr/>
          <p:nvPr/>
        </p:nvSpPr>
        <p:spPr>
          <a:xfrm>
            <a:off x="55008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 flipH="1" flipV="1">
            <a:off x="4285800" y="713880"/>
            <a:ext cx="4643640" cy="47149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927000" y="292896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855360" y="3643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1705680" y="292896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3"/>
          <p:cNvSpPr/>
          <p:nvPr/>
        </p:nvSpPr>
        <p:spPr>
          <a:xfrm>
            <a:off x="1834920" y="357192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25"/>
          <p:cNvSpPr/>
          <p:nvPr/>
        </p:nvSpPr>
        <p:spPr>
          <a:xfrm flipH="1" flipV="1">
            <a:off x="2571840" y="785880"/>
            <a:ext cx="5929200" cy="58579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927000" y="528624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7"/>
          <p:cNvSpPr/>
          <p:nvPr/>
        </p:nvSpPr>
        <p:spPr>
          <a:xfrm>
            <a:off x="853200" y="585792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8"/>
          <p:cNvSpPr/>
          <p:nvPr/>
        </p:nvSpPr>
        <p:spPr>
          <a:xfrm>
            <a:off x="1726920" y="521496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9"/>
          <p:cNvSpPr/>
          <p:nvPr/>
        </p:nvSpPr>
        <p:spPr>
          <a:xfrm>
            <a:off x="1797480" y="5929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31"/>
          <p:cNvSpPr/>
          <p:nvPr/>
        </p:nvSpPr>
        <p:spPr>
          <a:xfrm flipH="1" flipV="1">
            <a:off x="2214360" y="2428560"/>
            <a:ext cx="4214520" cy="442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5"/>
          <p:cNvSpPr/>
          <p:nvPr/>
        </p:nvSpPr>
        <p:spPr>
          <a:xfrm>
            <a:off x="755640" y="90792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Times New Roman"/>
              </a:rPr>
              <a:t>Если у линейных функций угловой коэффициент одинаковый, то их графики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параллельны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ение зависимости положения графиков линейной функции от значения коэффициенто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826920" y="692280"/>
            <a:ext cx="7777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остроим несколько графиков линейных функций, у которых разные  угловые коэффициенты, а значение  </a:t>
            </a: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- одинаковы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314440" y="857160"/>
            <a:ext cx="6829560" cy="6000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137520" y="0"/>
            <a:ext cx="25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-3х + </a:t>
            </a:r>
            <a:r>
              <a:rPr b="0" lang="ru-RU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107172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3" name="Прямоугольник 4"/>
          <p:cNvSpPr/>
          <p:nvPr/>
        </p:nvSpPr>
        <p:spPr>
          <a:xfrm>
            <a:off x="-71640" y="242892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х + </a:t>
            </a:r>
            <a:r>
              <a:rPr b="0" lang="ru-RU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-83160" y="4643280"/>
            <a:ext cx="24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2х + </a:t>
            </a:r>
            <a:r>
              <a:rPr b="0" lang="ru-RU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321480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0" y="5286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7" name="TextBox 8"/>
          <p:cNvSpPr/>
          <p:nvPr/>
        </p:nvSpPr>
        <p:spPr>
          <a:xfrm>
            <a:off x="928080" y="10717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997920" y="17859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1749240" y="107172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080" y="17859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12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14"/>
          <p:cNvSpPr/>
          <p:nvPr/>
        </p:nvSpPr>
        <p:spPr>
          <a:xfrm>
            <a:off x="5214960" y="857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5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6"/>
          <p:cNvSpPr/>
          <p:nvPr/>
        </p:nvSpPr>
        <p:spPr>
          <a:xfrm>
            <a:off x="6429240" y="1285920"/>
            <a:ext cx="142920" cy="14292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7"/>
          <p:cNvSpPr/>
          <p:nvPr/>
        </p:nvSpPr>
        <p:spPr>
          <a:xfrm>
            <a:off x="6000840" y="12859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18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20"/>
          <p:cNvSpPr/>
          <p:nvPr/>
        </p:nvSpPr>
        <p:spPr>
          <a:xfrm flipH="1" flipV="1">
            <a:off x="5336640" y="877680"/>
            <a:ext cx="1878120" cy="5979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928080" y="32148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926640" y="39290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1774080" y="32148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1785960" y="39290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27"/>
          <p:cNvSpPr/>
          <p:nvPr/>
        </p:nvSpPr>
        <p:spPr>
          <a:xfrm flipV="1">
            <a:off x="2357280" y="999720"/>
            <a:ext cx="4500720" cy="4429080"/>
          </a:xfrm>
          <a:prstGeom prst="line">
            <a:avLst/>
          </a:prstGeom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8"/>
          <p:cNvSpPr/>
          <p:nvPr/>
        </p:nvSpPr>
        <p:spPr>
          <a:xfrm>
            <a:off x="1071000" y="5286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9"/>
          <p:cNvSpPr/>
          <p:nvPr/>
        </p:nvSpPr>
        <p:spPr>
          <a:xfrm>
            <a:off x="997920" y="6000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0"/>
          <p:cNvSpPr/>
          <p:nvPr/>
        </p:nvSpPr>
        <p:spPr>
          <a:xfrm>
            <a:off x="1809720" y="5286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1"/>
          <p:cNvSpPr/>
          <p:nvPr/>
        </p:nvSpPr>
        <p:spPr>
          <a:xfrm>
            <a:off x="1785960" y="6000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33"/>
          <p:cNvSpPr/>
          <p:nvPr/>
        </p:nvSpPr>
        <p:spPr>
          <a:xfrm flipV="1">
            <a:off x="3357720" y="928800"/>
            <a:ext cx="2928960" cy="59292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4"/>
          <p:cNvSpPr/>
          <p:nvPr/>
        </p:nvSpPr>
        <p:spPr>
          <a:xfrm>
            <a:off x="5137560" y="142884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36"/>
          <p:cNvCxnSpPr/>
          <p:nvPr/>
        </p:nvCxnSpPr>
        <p:spPr>
          <a:xfrm flipH="1" flipV="1">
            <a:off x="2571480" y="499320"/>
            <a:ext cx="271512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38"/>
          <p:cNvCxnSpPr>
            <a:endCxn id="203" idx="3"/>
          </p:cNvCxnSpPr>
          <p:nvPr/>
        </p:nvCxnSpPr>
        <p:spPr>
          <a:xfrm flipH="1">
            <a:off x="1996200" y="2070720"/>
            <a:ext cx="3218760" cy="711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40"/>
          <p:cNvCxnSpPr/>
          <p:nvPr/>
        </p:nvCxnSpPr>
        <p:spPr>
          <a:xfrm flipH="1">
            <a:off x="2214360" y="2071440"/>
            <a:ext cx="3072240" cy="3072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785880" y="428760"/>
            <a:ext cx="7786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рафик линейной функции пересекает ось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Y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в точ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(0;</a:t>
            </a: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b</a:t>
            </a: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0" y="2643120"/>
            <a:ext cx="88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 =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0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, 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k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x +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 ·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2" descr=""/>
          <p:cNvPicPr/>
          <p:nvPr/>
        </p:nvPicPr>
        <p:blipFill>
          <a:blip r:embed="rId1"/>
          <a:stretch/>
        </p:blipFill>
        <p:spPr>
          <a:xfrm>
            <a:off x="-23760" y="73080"/>
            <a:ext cx="9551880" cy="1511280"/>
          </a:xfrm>
          <a:prstGeom prst="rect">
            <a:avLst/>
          </a:prstGeom>
          <a:ln w="0">
            <a:noFill/>
          </a:ln>
        </p:spPr>
      </p:pic>
      <p:pic>
        <p:nvPicPr>
          <p:cNvPr id="235" name="Таблица 3" descr=""/>
          <p:cNvPicPr/>
          <p:nvPr/>
        </p:nvPicPr>
        <p:blipFill>
          <a:blip r:embed="rId2"/>
          <a:stretch/>
        </p:blipFill>
        <p:spPr>
          <a:xfrm>
            <a:off x="139680" y="1500120"/>
            <a:ext cx="8864640" cy="511344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11"/>
          <p:cNvGrpSpPr/>
          <p:nvPr/>
        </p:nvGrpSpPr>
        <p:grpSpPr>
          <a:xfrm>
            <a:off x="1071360" y="1643040"/>
            <a:ext cx="1500480" cy="1214280"/>
            <a:chOff x="1071360" y="1643040"/>
            <a:chExt cx="1500480" cy="1214280"/>
          </a:xfrm>
        </p:grpSpPr>
        <p:cxnSp>
          <p:nvCxnSpPr>
            <p:cNvPr id="237" name="Прямая со стрелкой 5"/>
            <p:cNvCxnSpPr/>
            <p:nvPr/>
          </p:nvCxnSpPr>
          <p:spPr>
            <a:xfrm flipV="1">
              <a:off x="1569960" y="178524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Прямая со стрелкой 6"/>
            <p:cNvCxnSpPr/>
            <p:nvPr/>
          </p:nvCxnSpPr>
          <p:spPr>
            <a:xfrm>
              <a:off x="1071360" y="242892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TextBox 8"/>
            <p:cNvSpPr/>
            <p:nvPr/>
          </p:nvSpPr>
          <p:spPr>
            <a:xfrm>
              <a:off x="1357200" y="2356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9"/>
            <p:cNvSpPr/>
            <p:nvPr/>
          </p:nvSpPr>
          <p:spPr>
            <a:xfrm>
              <a:off x="228636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0"/>
            <p:cNvSpPr/>
            <p:nvPr/>
          </p:nvSpPr>
          <p:spPr>
            <a:xfrm>
              <a:off x="157176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Прямая соединительная линия 13"/>
          <p:cNvSpPr/>
          <p:nvPr/>
        </p:nvSpPr>
        <p:spPr>
          <a:xfrm>
            <a:off x="1285920" y="2428920"/>
            <a:ext cx="85716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Группа 14"/>
          <p:cNvGrpSpPr/>
          <p:nvPr/>
        </p:nvGrpSpPr>
        <p:grpSpPr>
          <a:xfrm>
            <a:off x="1071360" y="3071880"/>
            <a:ext cx="1500480" cy="1215720"/>
            <a:chOff x="1071360" y="3071880"/>
            <a:chExt cx="1500480" cy="1215720"/>
          </a:xfrm>
        </p:grpSpPr>
        <p:cxnSp>
          <p:nvCxnSpPr>
            <p:cNvPr id="244" name="Прямая со стрелкой 15"/>
            <p:cNvCxnSpPr/>
            <p:nvPr/>
          </p:nvCxnSpPr>
          <p:spPr>
            <a:xfrm flipV="1">
              <a:off x="1569960" y="321552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Прямая со стрелкой 16"/>
            <p:cNvCxnSpPr/>
            <p:nvPr/>
          </p:nvCxnSpPr>
          <p:spPr>
            <a:xfrm>
              <a:off x="1071360" y="385776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6" name="TextBox 17"/>
            <p:cNvSpPr/>
            <p:nvPr/>
          </p:nvSpPr>
          <p:spPr>
            <a:xfrm>
              <a:off x="1357200" y="3786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18"/>
            <p:cNvSpPr/>
            <p:nvPr/>
          </p:nvSpPr>
          <p:spPr>
            <a:xfrm>
              <a:off x="2286360" y="3858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19"/>
            <p:cNvSpPr/>
            <p:nvPr/>
          </p:nvSpPr>
          <p:spPr>
            <a:xfrm>
              <a:off x="1571760" y="30718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20"/>
          <p:cNvGrpSpPr/>
          <p:nvPr/>
        </p:nvGrpSpPr>
        <p:grpSpPr>
          <a:xfrm>
            <a:off x="4357440" y="5000760"/>
            <a:ext cx="1500480" cy="1215720"/>
            <a:chOff x="4357440" y="5000760"/>
            <a:chExt cx="1500480" cy="1215720"/>
          </a:xfrm>
        </p:grpSpPr>
        <p:cxnSp>
          <p:nvCxnSpPr>
            <p:cNvPr id="250" name="Прямая со стрелкой 21"/>
            <p:cNvCxnSpPr/>
            <p:nvPr/>
          </p:nvCxnSpPr>
          <p:spPr>
            <a:xfrm flipV="1">
              <a:off x="4856040" y="5144760"/>
              <a:ext cx="3600" cy="107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1" name="Прямая со стрелкой 22"/>
            <p:cNvCxnSpPr/>
            <p:nvPr/>
          </p:nvCxnSpPr>
          <p:spPr>
            <a:xfrm>
              <a:off x="4357440" y="578628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TextBox 23"/>
            <p:cNvSpPr/>
            <p:nvPr/>
          </p:nvSpPr>
          <p:spPr>
            <a:xfrm>
              <a:off x="4643280" y="5715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4"/>
            <p:cNvSpPr/>
            <p:nvPr/>
          </p:nvSpPr>
          <p:spPr>
            <a:xfrm>
              <a:off x="5572440" y="5787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25"/>
            <p:cNvSpPr/>
            <p:nvPr/>
          </p:nvSpPr>
          <p:spPr>
            <a:xfrm>
              <a:off x="4857840" y="50007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26"/>
          <p:cNvGrpSpPr/>
          <p:nvPr/>
        </p:nvGrpSpPr>
        <p:grpSpPr>
          <a:xfrm>
            <a:off x="999720" y="4857840"/>
            <a:ext cx="1500480" cy="1215720"/>
            <a:chOff x="999720" y="4857840"/>
            <a:chExt cx="1500480" cy="1215720"/>
          </a:xfrm>
        </p:grpSpPr>
        <p:cxnSp>
          <p:nvCxnSpPr>
            <p:cNvPr id="256" name="Прямая со стрелкой 27"/>
            <p:cNvCxnSpPr/>
            <p:nvPr/>
          </p:nvCxnSpPr>
          <p:spPr>
            <a:xfrm flipV="1">
              <a:off x="1498320" y="500148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Прямая со стрелкой 28"/>
            <p:cNvCxnSpPr/>
            <p:nvPr/>
          </p:nvCxnSpPr>
          <p:spPr>
            <a:xfrm>
              <a:off x="999720" y="564372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8" name="TextBox 29"/>
            <p:cNvSpPr/>
            <p:nvPr/>
          </p:nvSpPr>
          <p:spPr>
            <a:xfrm>
              <a:off x="1285560" y="5572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30"/>
            <p:cNvSpPr/>
            <p:nvPr/>
          </p:nvSpPr>
          <p:spPr>
            <a:xfrm>
              <a:off x="2214720" y="5644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31"/>
            <p:cNvSpPr/>
            <p:nvPr/>
          </p:nvSpPr>
          <p:spPr>
            <a:xfrm>
              <a:off x="1500120" y="4857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32"/>
          <p:cNvGrpSpPr/>
          <p:nvPr/>
        </p:nvGrpSpPr>
        <p:grpSpPr>
          <a:xfrm>
            <a:off x="4285800" y="3286080"/>
            <a:ext cx="1500480" cy="1215720"/>
            <a:chOff x="4285800" y="3286080"/>
            <a:chExt cx="1500480" cy="1215720"/>
          </a:xfrm>
        </p:grpSpPr>
        <p:cxnSp>
          <p:nvCxnSpPr>
            <p:cNvPr id="262" name="Прямая со стрелкой 33"/>
            <p:cNvCxnSpPr/>
            <p:nvPr/>
          </p:nvCxnSpPr>
          <p:spPr>
            <a:xfrm flipV="1">
              <a:off x="4784400" y="342972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Прямая со стрелкой 34"/>
            <p:cNvCxnSpPr/>
            <p:nvPr/>
          </p:nvCxnSpPr>
          <p:spPr>
            <a:xfrm>
              <a:off x="4285800" y="407196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" name="TextBox 35"/>
            <p:cNvSpPr/>
            <p:nvPr/>
          </p:nvSpPr>
          <p:spPr>
            <a:xfrm>
              <a:off x="4571640" y="4001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36"/>
            <p:cNvSpPr/>
            <p:nvPr/>
          </p:nvSpPr>
          <p:spPr>
            <a:xfrm>
              <a:off x="5500800" y="4072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37"/>
            <p:cNvSpPr/>
            <p:nvPr/>
          </p:nvSpPr>
          <p:spPr>
            <a:xfrm>
              <a:off x="4786200" y="3286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Группа 38"/>
          <p:cNvGrpSpPr/>
          <p:nvPr/>
        </p:nvGrpSpPr>
        <p:grpSpPr>
          <a:xfrm>
            <a:off x="7286400" y="1643040"/>
            <a:ext cx="1500480" cy="1214280"/>
            <a:chOff x="7286400" y="1643040"/>
            <a:chExt cx="1500480" cy="1214280"/>
          </a:xfrm>
        </p:grpSpPr>
        <p:cxnSp>
          <p:nvCxnSpPr>
            <p:cNvPr id="268" name="Прямая со стрелкой 39"/>
            <p:cNvCxnSpPr/>
            <p:nvPr/>
          </p:nvCxnSpPr>
          <p:spPr>
            <a:xfrm flipV="1">
              <a:off x="7785000" y="178524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Прямая со стрелкой 40"/>
            <p:cNvCxnSpPr/>
            <p:nvPr/>
          </p:nvCxnSpPr>
          <p:spPr>
            <a:xfrm>
              <a:off x="7286400" y="242892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0" name="TextBox 41"/>
            <p:cNvSpPr/>
            <p:nvPr/>
          </p:nvSpPr>
          <p:spPr>
            <a:xfrm>
              <a:off x="7572240" y="2356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42"/>
            <p:cNvSpPr/>
            <p:nvPr/>
          </p:nvSpPr>
          <p:spPr>
            <a:xfrm>
              <a:off x="850140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43"/>
            <p:cNvSpPr/>
            <p:nvPr/>
          </p:nvSpPr>
          <p:spPr>
            <a:xfrm>
              <a:off x="778680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Группа 44"/>
          <p:cNvGrpSpPr/>
          <p:nvPr/>
        </p:nvGrpSpPr>
        <p:grpSpPr>
          <a:xfrm>
            <a:off x="4285800" y="1643040"/>
            <a:ext cx="1500480" cy="1214280"/>
            <a:chOff x="4285800" y="1643040"/>
            <a:chExt cx="1500480" cy="1214280"/>
          </a:xfrm>
        </p:grpSpPr>
        <p:cxnSp>
          <p:nvCxnSpPr>
            <p:cNvPr id="274" name="Прямая со стрелкой 45"/>
            <p:cNvCxnSpPr/>
            <p:nvPr/>
          </p:nvCxnSpPr>
          <p:spPr>
            <a:xfrm flipV="1">
              <a:off x="4784400" y="178524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Прямая со стрелкой 46"/>
            <p:cNvCxnSpPr/>
            <p:nvPr/>
          </p:nvCxnSpPr>
          <p:spPr>
            <a:xfrm>
              <a:off x="4285800" y="242892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TextBox 47"/>
            <p:cNvSpPr/>
            <p:nvPr/>
          </p:nvSpPr>
          <p:spPr>
            <a:xfrm>
              <a:off x="4571640" y="2356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48"/>
            <p:cNvSpPr/>
            <p:nvPr/>
          </p:nvSpPr>
          <p:spPr>
            <a:xfrm>
              <a:off x="550080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49"/>
            <p:cNvSpPr/>
            <p:nvPr/>
          </p:nvSpPr>
          <p:spPr>
            <a:xfrm>
              <a:off x="478620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Прямая соединительная линия 50"/>
          <p:cNvSpPr/>
          <p:nvPr/>
        </p:nvSpPr>
        <p:spPr>
          <a:xfrm>
            <a:off x="4357800" y="2143080"/>
            <a:ext cx="857160" cy="18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51"/>
          <p:cNvSpPr/>
          <p:nvPr/>
        </p:nvSpPr>
        <p:spPr>
          <a:xfrm>
            <a:off x="7429680" y="2643120"/>
            <a:ext cx="857160" cy="18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53"/>
          <p:cNvSpPr/>
          <p:nvPr/>
        </p:nvSpPr>
        <p:spPr>
          <a:xfrm flipH="1">
            <a:off x="4285800" y="3500280"/>
            <a:ext cx="714600" cy="771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56"/>
          <p:cNvSpPr/>
          <p:nvPr/>
        </p:nvSpPr>
        <p:spPr>
          <a:xfrm flipH="1">
            <a:off x="1428840" y="3500280"/>
            <a:ext cx="714240" cy="771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58"/>
          <p:cNvSpPr/>
          <p:nvPr/>
        </p:nvSpPr>
        <p:spPr>
          <a:xfrm>
            <a:off x="4643280" y="5357880"/>
            <a:ext cx="1071720" cy="79848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59"/>
          <p:cNvSpPr/>
          <p:nvPr/>
        </p:nvSpPr>
        <p:spPr>
          <a:xfrm>
            <a:off x="785880" y="5500800"/>
            <a:ext cx="857160" cy="64296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Группа 62"/>
          <p:cNvGrpSpPr/>
          <p:nvPr/>
        </p:nvGrpSpPr>
        <p:grpSpPr>
          <a:xfrm>
            <a:off x="7286400" y="5072040"/>
            <a:ext cx="1500480" cy="1215720"/>
            <a:chOff x="7286400" y="5072040"/>
            <a:chExt cx="1500480" cy="1215720"/>
          </a:xfrm>
        </p:grpSpPr>
        <p:cxnSp>
          <p:nvCxnSpPr>
            <p:cNvPr id="286" name="Прямая со стрелкой 63"/>
            <p:cNvCxnSpPr/>
            <p:nvPr/>
          </p:nvCxnSpPr>
          <p:spPr>
            <a:xfrm flipV="1">
              <a:off x="7785000" y="521568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Прямая со стрелкой 64"/>
            <p:cNvCxnSpPr/>
            <p:nvPr/>
          </p:nvCxnSpPr>
          <p:spPr>
            <a:xfrm>
              <a:off x="7286400" y="585792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TextBox 65"/>
            <p:cNvSpPr/>
            <p:nvPr/>
          </p:nvSpPr>
          <p:spPr>
            <a:xfrm>
              <a:off x="7572240" y="5787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66"/>
            <p:cNvSpPr/>
            <p:nvPr/>
          </p:nvSpPr>
          <p:spPr>
            <a:xfrm>
              <a:off x="8501400" y="58582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67"/>
            <p:cNvSpPr/>
            <p:nvPr/>
          </p:nvSpPr>
          <p:spPr>
            <a:xfrm>
              <a:off x="7786800" y="5072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68"/>
          <p:cNvGrpSpPr/>
          <p:nvPr/>
        </p:nvGrpSpPr>
        <p:grpSpPr>
          <a:xfrm>
            <a:off x="7286400" y="3286080"/>
            <a:ext cx="1500480" cy="1215720"/>
            <a:chOff x="7286400" y="3286080"/>
            <a:chExt cx="1500480" cy="1215720"/>
          </a:xfrm>
        </p:grpSpPr>
        <p:cxnSp>
          <p:nvCxnSpPr>
            <p:cNvPr id="292" name="Прямая со стрелкой 69"/>
            <p:cNvCxnSpPr/>
            <p:nvPr/>
          </p:nvCxnSpPr>
          <p:spPr>
            <a:xfrm flipV="1">
              <a:off x="7785000" y="342972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Прямая со стрелкой 70"/>
            <p:cNvCxnSpPr/>
            <p:nvPr/>
          </p:nvCxnSpPr>
          <p:spPr>
            <a:xfrm>
              <a:off x="7286400" y="407196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4" name="TextBox 71"/>
            <p:cNvSpPr/>
            <p:nvPr/>
          </p:nvSpPr>
          <p:spPr>
            <a:xfrm>
              <a:off x="7572240" y="4001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72"/>
            <p:cNvSpPr/>
            <p:nvPr/>
          </p:nvSpPr>
          <p:spPr>
            <a:xfrm>
              <a:off x="8501400" y="4072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73"/>
            <p:cNvSpPr/>
            <p:nvPr/>
          </p:nvSpPr>
          <p:spPr>
            <a:xfrm>
              <a:off x="7786800" y="3286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ая соединительная линия 74"/>
          <p:cNvSpPr/>
          <p:nvPr/>
        </p:nvSpPr>
        <p:spPr>
          <a:xfrm>
            <a:off x="7358040" y="5572080"/>
            <a:ext cx="857160" cy="64296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75"/>
          <p:cNvSpPr/>
          <p:nvPr/>
        </p:nvSpPr>
        <p:spPr>
          <a:xfrm flipH="1">
            <a:off x="7429680" y="3714840"/>
            <a:ext cx="714240" cy="7714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2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4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8" dur="2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0" dur="2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4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6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0" dur="2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2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6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8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2" dur="20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4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0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4" dur="2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6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0" dur="20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2" dur="2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785880" y="428760"/>
            <a:ext cx="77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6, 3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Улыбающееся лицо 6"/>
          <p:cNvSpPr/>
          <p:nvPr/>
        </p:nvSpPr>
        <p:spPr>
          <a:xfrm>
            <a:off x="1403280" y="1557360"/>
            <a:ext cx="3240000" cy="3166920"/>
          </a:xfrm>
          <a:prstGeom prst="smileyFace">
            <a:avLst>
              <a:gd name="adj" fmla="val -4652"/>
            </a:avLst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Улыбающееся лицо 7"/>
          <p:cNvSpPr/>
          <p:nvPr/>
        </p:nvSpPr>
        <p:spPr>
          <a:xfrm>
            <a:off x="5076720" y="1557360"/>
            <a:ext cx="3240360" cy="3166920"/>
          </a:xfrm>
          <a:prstGeom prst="smileyFace">
            <a:avLst>
              <a:gd name="adj" fmla="val 9282"/>
            </a:avLst>
          </a:prstGeom>
          <a:solidFill>
            <a:srgbClr val="12fa3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2124000" y="1773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урок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214280"/>
            <a:ext cx="8286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обобщать и систематизировать изученный 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определять по значениям k и b положение графиков на координатной плоск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уле линейной функции научить определять соответствующий ей графи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способности применять теоретические знания на практи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, умение применять свои знания при изучении линейной функ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культуру математической ре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интерес к изучению математи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эстетику в выполнении чертеж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85880" y="1143000"/>
            <a:ext cx="73580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Функция вида </a:t>
            </a:r>
            <a:r>
              <a:rPr b="1" i="1" lang="en-US" sz="4400" spc="-1" strike="noStrike">
                <a:solidFill>
                  <a:srgbClr val="ff0000"/>
                </a:solidFill>
                <a:latin typeface="Constantia"/>
              </a:rPr>
              <a:t>y = kx +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, где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k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числа, а  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 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переменные, называется линейной функ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83520" y="3714840"/>
            <a:ext cx="917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x –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независимая переменная (арг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y –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зависимая переменная (функ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631600" y="1071720"/>
            <a:ext cx="339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у = 2 х 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88440" y="2214720"/>
            <a:ext cx="11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х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69440" y="2143080"/>
            <a:ext cx="403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у = 2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     +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185000" y="2143080"/>
            <a:ext cx="5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497240" y="221472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031440" y="2071800"/>
            <a:ext cx="31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= 0 +3 =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3214800" y="307188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(0 ; 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531360" y="4429080"/>
            <a:ext cx="11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х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2198160" y="4357800"/>
            <a:ext cx="40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у = 2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     +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1549080" y="442908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4113720" y="4429080"/>
            <a:ext cx="5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6141240" y="428616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= 4+3 =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458880" y="5429160"/>
            <a:ext cx="17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(2 ;7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357120" y="35712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брав  значение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аргумента), можно легко вычислить значение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фун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57 0.0044 L 0.30538 -0.00602 E">
                                      <p:cBhvr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1 0.00671 L 0.27621 0.00671 E">
                                      <p:cBhvr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57120" y="35712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рафиком линейной функции 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y = kx + b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является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прямая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л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760" y="1428840"/>
          <a:ext cx="8072280" cy="1158840"/>
        </p:xfrm>
        <a:graphic>
          <a:graphicData uri="http://schemas.openxmlformats.org/drawingml/2006/table">
            <a:tbl>
              <a:tblPr/>
              <a:tblGrid>
                <a:gridCol w="1346040"/>
                <a:gridCol w="1344600"/>
                <a:gridCol w="1346400"/>
                <a:gridCol w="1344600"/>
                <a:gridCol w="1346040"/>
                <a:gridCol w="1344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4" name="Прямоугольник 3"/>
          <p:cNvSpPr/>
          <p:nvPr/>
        </p:nvSpPr>
        <p:spPr>
          <a:xfrm>
            <a:off x="280080" y="3143160"/>
            <a:ext cx="25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y = 3x +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346560" y="2643120"/>
            <a:ext cx="4797360" cy="4214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2139480" y="200016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"/>
          <p:cNvSpPr/>
          <p:nvPr/>
        </p:nvSpPr>
        <p:spPr>
          <a:xfrm>
            <a:off x="5072040" y="471492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5429160" y="471492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8"/>
          <p:cNvSpPr/>
          <p:nvPr/>
        </p:nvSpPr>
        <p:spPr>
          <a:xfrm>
            <a:off x="564372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9"/>
          <p:cNvSpPr/>
          <p:nvPr/>
        </p:nvSpPr>
        <p:spPr>
          <a:xfrm>
            <a:off x="600084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0"/>
          <p:cNvSpPr/>
          <p:nvPr/>
        </p:nvSpPr>
        <p:spPr>
          <a:xfrm>
            <a:off x="628668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3570120" y="207180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4953240" y="20001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 flipH="1">
            <a:off x="6357960" y="192888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7632000" y="20001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8"/>
          <p:cNvSpPr/>
          <p:nvPr/>
        </p:nvSpPr>
        <p:spPr>
          <a:xfrm flipH="1">
            <a:off x="4857480" y="2714760"/>
            <a:ext cx="1428840" cy="414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L -8.33333E-007 0.19953 E">
                                      <p:cBhvr>
                                        <p:cTn id="13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00313 0.08033 E">
                                      <p:cBhvr>
                                        <p:cTn id="14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4.44444E-006 -0.0419 E">
                                      <p:cBhvr>
                                        <p:cTn id="16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4.72222E-006 -0.16111 E">
                                      <p:cBhvr>
                                        <p:cTn id="17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00226 -0.28727 E">
                                      <p:cBhvr>
                                        <p:cTn id="18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143000" y="50004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ерез 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две  точки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ожно  провести только 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одну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прямую  ли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2"/>
          <p:cNvSpPr/>
          <p:nvPr/>
        </p:nvSpPr>
        <p:spPr>
          <a:xfrm>
            <a:off x="2643120" y="4071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"/>
          <p:cNvSpPr/>
          <p:nvPr/>
        </p:nvSpPr>
        <p:spPr>
          <a:xfrm>
            <a:off x="5715000" y="30718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5"/>
          <p:cNvSpPr/>
          <p:nvPr/>
        </p:nvSpPr>
        <p:spPr>
          <a:xfrm flipV="1">
            <a:off x="357120" y="2214720"/>
            <a:ext cx="8286840" cy="264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571680" y="54291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построения графика линейной функции достаточно 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двух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ч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070000" y="357120"/>
            <a:ext cx="707400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0" y="100008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4" name="Прямоугольник 4"/>
          <p:cNvSpPr/>
          <p:nvPr/>
        </p:nvSpPr>
        <p:spPr>
          <a:xfrm>
            <a:off x="-123120" y="0"/>
            <a:ext cx="24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-2х 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997920" y="9288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1640880" y="928800"/>
            <a:ext cx="6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005480" y="164304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1765800" y="157176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9"/>
          <p:cNvSpPr/>
          <p:nvPr/>
        </p:nvSpPr>
        <p:spPr>
          <a:xfrm>
            <a:off x="55008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10"/>
          <p:cNvSpPr/>
          <p:nvPr/>
        </p:nvSpPr>
        <p:spPr>
          <a:xfrm>
            <a:off x="4643280" y="1214280"/>
            <a:ext cx="133560" cy="133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 flipH="1" flipV="1">
            <a:off x="4285800" y="428760"/>
            <a:ext cx="3000600" cy="6000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070000" y="357120"/>
            <a:ext cx="707400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100008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ик 3"/>
          <p:cNvSpPr/>
          <p:nvPr/>
        </p:nvSpPr>
        <p:spPr>
          <a:xfrm>
            <a:off x="-84240" y="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2х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997920" y="9288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763640" y="9288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851760" y="1571760"/>
            <a:ext cx="6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791000" y="157176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8"/>
          <p:cNvSpPr/>
          <p:nvPr/>
        </p:nvSpPr>
        <p:spPr>
          <a:xfrm>
            <a:off x="5500800" y="5429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9"/>
          <p:cNvSpPr/>
          <p:nvPr/>
        </p:nvSpPr>
        <p:spPr>
          <a:xfrm>
            <a:off x="6715080" y="2928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3"/>
          <p:cNvSpPr/>
          <p:nvPr/>
        </p:nvSpPr>
        <p:spPr>
          <a:xfrm flipV="1">
            <a:off x="5142960" y="428760"/>
            <a:ext cx="2928600" cy="5929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5:21:01Z</dcterms:created>
  <dc:creator>1</dc:creator>
  <dc:description/>
  <dc:language>en-US</dc:language>
  <cp:lastModifiedBy>Димон</cp:lastModifiedBy>
  <dcterms:modified xsi:type="dcterms:W3CDTF">2016-12-11T14:26:36Z</dcterms:modified>
  <cp:revision>78</cp:revision>
  <dc:subject/>
  <dc:title>Слайд 1</dc:title>
</cp:coreProperties>
</file>